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2.wmf" ContentType="image/x-wmf"/>
  <Override PartName="/ppt/media/image9.gif" ContentType="image/gif"/>
  <Override PartName="/ppt/media/image10.gif" ContentType="image/gif"/>
  <Override PartName="/ppt/media/image13.wmf" ContentType="image/x-wmf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224-328A-4A16-BED0-F880A372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02D-F2EF-44E3-B183-9AEB270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1D9-B337-4181-BA9D-34B65AAB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8F1-3287-4BC6-858E-026DCC5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52C5-529B-4FF6-AED8-3AD26E48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B2BC-0F48-48F6-B7EE-10EAD67E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1716-F208-4873-B297-F89CD711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941C-DA7C-4058-A5BF-7509772C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939F-FF63-41CC-B228-531E76A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751F-7AB3-492D-AB5B-353FE6A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62FC-4485-4CF3-928D-B71CC8B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796-0284-43E0-8DBC-2B22F6E8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8D05-AF87-4040-8759-CFCA352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499-B5E9-4235-B5FB-BCA4899B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B3D0-B847-4825-9088-E75473E8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6650-E7C7-49DC-AD33-EE5AE99C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0DE5-E88C-4CDF-BA74-6D0F14DA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0D9B-0A0A-458D-947A-FD2914A1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5B35-BDAD-4482-8A4B-7F16210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577F-BD1D-42A8-BF40-4BF5C876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54F3-702D-424F-BB4F-E53A3C0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8D06-B195-4E45-9E5A-641CE7CD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2EA-D631-45FB-B658-05B6C349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AAB5-BC3F-4074-A3EA-B85FDD2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BDE4-D967-42AF-A112-D0C8832F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C9E7-ABDD-4E39-A902-B053015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B644-48A8-4AB6-83D1-0DC1C27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4D46-5AAF-4350-8181-63462E99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9736-F455-47C2-853A-6B9C4F81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A3AF-C7BF-4908-B9A3-1D3E0916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444C-8E55-4B77-8553-9347E1EA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6CF8-789D-49A4-9EEE-2DEC9A1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99DA-708E-4638-9040-B38D7DB4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B1D-B830-4670-A2F1-BF08E162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D04B-16FA-45E3-8D9C-076BF4E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86B4-551A-47C1-959A-70ED333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3141-C3FA-4DA5-AFE9-AFA1CA7F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224D-139E-4C86-9ADA-3B21531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077D-7DF9-4760-9F36-2847D14A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DC3D-43DB-4844-8001-61E80B5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2575-67BE-459B-BC19-DA2C7AE9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DD48-559F-414A-9E2B-179158CC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B550-379F-4096-AAD6-BDD57CD0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F73-5F46-49D8-87CA-07E5D17A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910-D4E9-4F76-949F-EB685EFF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BD5-CC45-4425-82C1-B1EF97D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823-6B6B-4295-9DC9-994AB40D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125-B1F6-4AFA-A75D-8CEAC404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C987-5B9B-48F7-9A1B-A7FFC70EF36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FAF-8191-4271-801B-80DA365A68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83C-287F-475C-B2EE-F64542BEA9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58C-4BD3-494E-B63E-28590EB2CF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urt Rei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h spiele football und baseball fur meine gesundhe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ch, ich spiele basketball und in es, ich lauf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ch, ich esse obst denn, es ist gut fur mein gesundheit und obst schmeckt sehr gu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MP900442234[1]"/>
          <p:cNvPicPr/>
          <p:nvPr/>
        </p:nvPicPr>
        <p:blipFill>
          <a:blip r:embed="rId1"/>
          <a:stretch/>
        </p:blipFill>
        <p:spPr>
          <a:xfrm>
            <a:off x="5715000" y="472428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MC900441272[1]"/>
          <p:cNvPicPr/>
          <p:nvPr/>
        </p:nvPicPr>
        <p:blipFill>
          <a:blip r:embed="rId2"/>
          <a:stretch/>
        </p:blipFill>
        <p:spPr>
          <a:xfrm>
            <a:off x="32004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j0223774"/>
          <p:cNvPicPr/>
          <p:nvPr/>
        </p:nvPicPr>
        <p:blipFill>
          <a:blip r:embed="rId3"/>
          <a:stretch/>
        </p:blipFill>
        <p:spPr>
          <a:xfrm>
            <a:off x="1981080" y="5181480"/>
            <a:ext cx="1238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 rauchst und das ist nicht gut fur deine gesundhei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er, du laufst jeden tag und dass ist sehr gu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j0205365"/>
          <p:cNvPicPr/>
          <p:nvPr/>
        </p:nvPicPr>
        <p:blipFill>
          <a:blip r:embed="rId1"/>
          <a:stretch/>
        </p:blipFill>
        <p:spPr>
          <a:xfrm>
            <a:off x="6400800" y="419112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j0283030"/>
          <p:cNvPicPr/>
          <p:nvPr/>
        </p:nvPicPr>
        <p:blipFill>
          <a:blip r:embed="rId2"/>
          <a:stretch/>
        </p:blipFill>
        <p:spPr>
          <a:xfrm>
            <a:off x="2819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ine Mutter sagt, “Kurt, du darfst Pizza und Fleisch essen.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h darf nicht rauchen denn es ist nicht gut fur meine Gesundheit. Du kannst davon sterb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j0215791"/>
          <p:cNvPicPr/>
          <p:nvPr/>
        </p:nvPicPr>
        <p:blipFill>
          <a:blip r:embed="rId1"/>
          <a:stretch/>
        </p:blipFill>
        <p:spPr>
          <a:xfrm>
            <a:off x="5029200" y="4343400"/>
            <a:ext cx="3908520" cy="2266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j0215933"/>
          <p:cNvPicPr/>
          <p:nvPr/>
        </p:nvPicPr>
        <p:blipFill>
          <a:blip r:embed="rId2"/>
          <a:stretch/>
        </p:blipFill>
        <p:spPr>
          <a:xfrm>
            <a:off x="1600200" y="4724280"/>
            <a:ext cx="25938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6:57Z</dcterms:created>
  <dc:creator>CUSD220</dc:creator>
  <dc:description/>
  <dc:language>en-US</dc:language>
  <cp:lastModifiedBy>Reith</cp:lastModifiedBy>
  <dcterms:modified xsi:type="dcterms:W3CDTF">2012-03-02T00:37:45Z</dcterms:modified>
  <cp:revision>7</cp:revision>
  <dc:subject/>
  <dc:title>Meine Gesundheit</dc:title>
</cp:coreProperties>
</file>